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png" ContentType="image/png"/>
  <Override PartName="/ppt/media/image5.wmf" ContentType="image/x-wmf"/>
  <Override PartName="/ppt/media/image27.jpeg" ContentType="image/jpe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22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3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1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4.jpeg" ContentType="image/jpeg"/>
  <Override PartName="/ppt/media/image15.png" ContentType="image/png"/>
  <Override PartName="/ppt/media/image2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CBD-8135-4C36-83E4-A907BE10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613-D0B0-4BF7-B2CB-CF0BFC26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B90-7A7B-4F69-95C8-19429AA2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943-8A54-4ACA-9610-F482D9CB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894-17AF-4F88-A5DE-7E4AA352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AE0-0C22-4F1C-829D-50F20B8C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4FB-49BD-4477-987D-43D6D72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321-CCD8-43D5-81B7-DC1D2BEE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087-966C-461A-971E-A37E41B9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F97-BA72-44AF-80E4-3305B20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884-4A76-4612-95C6-2FAA90D7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37D-26E3-48AA-8763-8DBEE88C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6C82-B463-4DAB-B1F6-28872F802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Br, HI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the strong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45" name="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Arial"/>
              </a:rPr>
              <a:t>Step 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0" lang="en-US" sz="3000" spc="-1" strike="noStrike">
                <a:solidFill>
                  <a:srgbClr val="790015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0" lang="en-US" sz="3000" spc="-1" strike="noStrike">
                <a:solidFill>
                  <a:srgbClr val="0054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xpr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33412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 Check does [acid]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Ka &gt;1000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tep 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xpr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tep 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K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approxim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res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cccc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cccc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cccc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Equilibria Involving A Weak Aci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001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Arial"/>
              </a:rPr>
              <a:t>Approximate sol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xact Sol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Equilibrium Constants  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for Weak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Relation of K</a:t>
            </a:r>
            <a:r>
              <a:rPr b="0" lang="en-US" sz="4400" spc="-1" strike="noStrike" baseline="-25000">
                <a:solidFill>
                  <a:srgbClr val="ccccff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, K</a:t>
            </a:r>
            <a:r>
              <a:rPr b="0" lang="en-US" sz="4400" spc="-1" strike="noStrike" baseline="-25000">
                <a:solidFill>
                  <a:srgbClr val="cccc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, [H</a:t>
            </a:r>
            <a:r>
              <a:rPr b="0" lang="en-US" sz="44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0" lang="en-US" sz="4400" spc="-1" strike="noStrike" baseline="30000">
                <a:solidFill>
                  <a:srgbClr val="ccccff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] and 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Step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0015"/>
                </a:solidFill>
                <a:latin typeface="Times New Roman"/>
              </a:rPr>
              <a:t>initial</a:t>
            </a:r>
            <a:r>
              <a:rPr b="0" lang="en-US" sz="3600" spc="-1" strike="noStrike">
                <a:solidFill>
                  <a:srgbClr val="790015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400"/>
                </a:solidFill>
                <a:latin typeface="Times New Roman"/>
              </a:rPr>
              <a:t>change</a:t>
            </a:r>
            <a:r>
              <a:rPr b="0" lang="en-US" sz="3600" spc="-1" strike="noStrike">
                <a:solidFill>
                  <a:srgbClr val="0054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equilib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quilibria Involving A Weak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Step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Equilibria Involving A Weak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pH = 10.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ff"/>
                </a:solidFill>
                <a:latin typeface="Arial"/>
              </a:rPr>
              <a:t>STRONG ACID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 (l)   </a:t>
            </a:r>
            <a:r>
              <a:rPr b="0" lang="en-US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is about 100% ionized in wat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2959200" cy="236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Types of Acid/Base Reactions: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34240" y="1066680"/>
            <a:ext cx="5385960" cy="510120"/>
            <a:chOff x="534240" y="1066680"/>
            <a:chExt cx="5385960" cy="510120"/>
          </a:xfrm>
        </p:grpSpPr>
        <p:sp>
          <p:nvSpPr>
            <p:cNvPr id="145" name=""/>
            <p:cNvSpPr/>
            <p:nvPr/>
          </p:nvSpPr>
          <p:spPr>
            <a:xfrm>
              <a:off x="534240" y="1066680"/>
              <a:ext cx="5385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F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O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F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68400" y="1231920"/>
              <a:ext cx="609840" cy="152280"/>
              <a:chOff x="2768400" y="1231920"/>
              <a:chExt cx="609840" cy="152280"/>
            </a:xfrm>
          </p:grpSpPr>
          <p:sp>
            <p:nvSpPr>
              <p:cNvPr id="147" name=""/>
              <p:cNvSpPr/>
              <p:nvPr/>
            </p:nvSpPr>
            <p:spPr>
              <a:xfrm>
                <a:off x="2768760" y="123192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768400" y="138420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217440" y="45720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ak Bas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are weak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2440" y="107964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51880" y="1611360"/>
            <a:ext cx="6074640" cy="510120"/>
            <a:chOff x="551880" y="1611360"/>
            <a:chExt cx="6074640" cy="510120"/>
          </a:xfrm>
        </p:grpSpPr>
        <p:sp>
          <p:nvSpPr>
            <p:cNvPr id="152" name=""/>
            <p:cNvSpPr/>
            <p:nvPr/>
          </p:nvSpPr>
          <p:spPr>
            <a:xfrm>
              <a:off x="551880" y="1611360"/>
              <a:ext cx="60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O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NO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136680" y="1765440"/>
              <a:ext cx="609840" cy="152280"/>
              <a:chOff x="3136680" y="1765440"/>
              <a:chExt cx="609840" cy="152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137040" y="176544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136680" y="1917720"/>
                <a:ext cx="6094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228600" y="2666880"/>
            <a:ext cx="868680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gate acid-base pa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conjugate base of a strong acid has no measurabl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ongest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at can exist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on is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rongest 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at can exist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3815" r="0" b="0"/>
          <a:stretch/>
        </p:blipFill>
        <p:spPr>
          <a:xfrm>
            <a:off x="152280" y="76320"/>
            <a:ext cx="8836200" cy="6610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534960"/>
            <a:ext cx="8686800" cy="5784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357560" y="-1116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838080"/>
            <a:ext cx="99072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1295280"/>
            <a:ext cx="76176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5840" y="863640"/>
            <a:ext cx="5335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1280" y="-111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0840" y="673200"/>
            <a:ext cx="31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ercent ioniz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159360" y="533520"/>
            <a:ext cx="5830200" cy="768600"/>
            <a:chOff x="3159360" y="533520"/>
            <a:chExt cx="5830200" cy="768600"/>
          </a:xfrm>
        </p:grpSpPr>
        <p:grpSp>
          <p:nvGrpSpPr>
            <p:cNvPr id="169" name=""/>
            <p:cNvGrpSpPr/>
            <p:nvPr/>
          </p:nvGrpSpPr>
          <p:grpSpPr>
            <a:xfrm>
              <a:off x="3159360" y="533520"/>
              <a:ext cx="4723920" cy="768600"/>
              <a:chOff x="3159360" y="533520"/>
              <a:chExt cx="4723920" cy="768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159360" y="533520"/>
                <a:ext cx="472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Ionized acid concentration at equilibri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25440" y="903240"/>
                <a:ext cx="31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Initial concentration of ac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35320" y="903240"/>
                <a:ext cx="4572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792200" y="6746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768400" y="16002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monoprotic acid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31480" y="2286000"/>
            <a:ext cx="4844520" cy="968760"/>
            <a:chOff x="231480" y="2286000"/>
            <a:chExt cx="4844520" cy="968760"/>
          </a:xfrm>
        </p:grpSpPr>
        <p:sp>
          <p:nvSpPr>
            <p:cNvPr id="176" name=""/>
            <p:cNvSpPr/>
            <p:nvPr/>
          </p:nvSpPr>
          <p:spPr>
            <a:xfrm>
              <a:off x="231480" y="2528640"/>
              <a:ext cx="29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cent ionization 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097080" y="2286000"/>
              <a:ext cx="872640" cy="968760"/>
              <a:chOff x="3097080" y="2286000"/>
              <a:chExt cx="872640" cy="968760"/>
            </a:xfrm>
          </p:grpSpPr>
          <p:sp>
            <p:nvSpPr>
              <p:cNvPr id="178" name=""/>
              <p:cNvSpPr/>
              <p:nvPr/>
            </p:nvSpPr>
            <p:spPr>
              <a:xfrm>
                <a:off x="3196080" y="2286000"/>
                <a:ext cx="67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[H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97080" y="2744640"/>
                <a:ext cx="872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[HA]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90680" y="2768400"/>
                <a:ext cx="6858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878640" y="2527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229720" y="2527200"/>
            <a:ext cx="382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HA]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initial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8021" r="0" b="0"/>
          <a:stretch/>
        </p:blipFill>
        <p:spPr>
          <a:xfrm>
            <a:off x="2362320" y="3352680"/>
            <a:ext cx="4419360" cy="3376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3000" y="141120"/>
            <a:ext cx="81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ation Constants of Conjugate Acid-Bas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82520" y="1143000"/>
            <a:ext cx="4008240" cy="459720"/>
            <a:chOff x="1982520" y="1143000"/>
            <a:chExt cx="4008240" cy="459720"/>
          </a:xfrm>
        </p:grpSpPr>
        <p:sp>
          <p:nvSpPr>
            <p:cNvPr id="188" name=""/>
            <p:cNvSpPr/>
            <p:nvPr/>
          </p:nvSpPr>
          <p:spPr>
            <a:xfrm>
              <a:off x="1982520" y="1143000"/>
              <a:ext cx="40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A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H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A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63240" y="1306440"/>
              <a:ext cx="609840" cy="152280"/>
              <a:chOff x="3063240" y="1306440"/>
              <a:chExt cx="609840" cy="1522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63600" y="130644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3063240" y="145872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1148400" y="1752480"/>
            <a:ext cx="5352840" cy="560880"/>
            <a:chOff x="1148400" y="1752480"/>
            <a:chExt cx="5352840" cy="560880"/>
          </a:xfrm>
        </p:grpSpPr>
        <p:sp>
          <p:nvSpPr>
            <p:cNvPr id="193" name=""/>
            <p:cNvSpPr/>
            <p:nvPr/>
          </p:nvSpPr>
          <p:spPr>
            <a:xfrm>
              <a:off x="1148400" y="1752480"/>
              <a:ext cx="5352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OH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HA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352320" y="1917360"/>
              <a:ext cx="609840" cy="152280"/>
              <a:chOff x="3352320" y="1917360"/>
              <a:chExt cx="609840" cy="152280"/>
            </a:xfrm>
          </p:grpSpPr>
          <p:sp>
            <p:nvSpPr>
              <p:cNvPr id="195" name=""/>
              <p:cNvSpPr/>
              <p:nvPr/>
            </p:nvSpPr>
            <p:spPr>
              <a:xfrm>
                <a:off x="3352680" y="191736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3352320" y="2069640"/>
                <a:ext cx="609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6823800" y="11430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15880" y="175248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20968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029200" y="121932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175212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057400" y="121932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60840" y="1778040"/>
            <a:ext cx="38124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30600" y="2362320"/>
            <a:ext cx="4179240" cy="560880"/>
            <a:chOff x="1830600" y="2362320"/>
            <a:chExt cx="4179240" cy="560880"/>
          </a:xfrm>
        </p:grpSpPr>
        <p:sp>
          <p:nvSpPr>
            <p:cNvPr id="205" name=""/>
            <p:cNvSpPr/>
            <p:nvPr/>
          </p:nvSpPr>
          <p:spPr>
            <a:xfrm>
              <a:off x="2928960" y="2525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928960" y="2678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0600" y="2362320"/>
              <a:ext cx="41792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H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+ OH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25960" y="23623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45440" y="3200400"/>
            <a:ext cx="1649520" cy="690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48480" y="430704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ak Acid and Its Conjugat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45480" y="5181480"/>
            <a:ext cx="1234440" cy="927720"/>
            <a:chOff x="2445480" y="5181480"/>
            <a:chExt cx="1234440" cy="927720"/>
          </a:xfrm>
        </p:grpSpPr>
        <p:sp>
          <p:nvSpPr>
            <p:cNvPr id="212" name=""/>
            <p:cNvSpPr/>
            <p:nvPr/>
          </p:nvSpPr>
          <p:spPr>
            <a:xfrm>
              <a:off x="2445480" y="539928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139920" y="5181480"/>
              <a:ext cx="540000" cy="927720"/>
              <a:chOff x="3139920" y="5181480"/>
              <a:chExt cx="540000" cy="927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168360" y="51814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48560" y="5599080"/>
                <a:ext cx="482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39920" y="564984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5172840" y="5181480"/>
            <a:ext cx="1234440" cy="927720"/>
            <a:chOff x="5172840" y="5181480"/>
            <a:chExt cx="1234440" cy="927720"/>
          </a:xfrm>
        </p:grpSpPr>
        <p:sp>
          <p:nvSpPr>
            <p:cNvPr id="218" name=""/>
            <p:cNvSpPr/>
            <p:nvPr/>
          </p:nvSpPr>
          <p:spPr>
            <a:xfrm>
              <a:off x="5172840" y="539928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5867280" y="5181480"/>
              <a:ext cx="540000" cy="927720"/>
              <a:chOff x="5867280" y="5181480"/>
              <a:chExt cx="540000" cy="927720"/>
            </a:xfrm>
          </p:grpSpPr>
          <p:sp>
            <p:nvSpPr>
              <p:cNvPr id="220" name=""/>
              <p:cNvSpPr/>
              <p:nvPr/>
            </p:nvSpPr>
            <p:spPr>
              <a:xfrm>
                <a:off x="5895720" y="51814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75920" y="5599080"/>
                <a:ext cx="482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67280" y="564984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4476" r="0" b="0"/>
          <a:stretch/>
        </p:blipFill>
        <p:spPr>
          <a:xfrm>
            <a:off x="609480" y="2413080"/>
            <a:ext cx="7921800" cy="269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91480" y="651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19680" y="609480"/>
            <a:ext cx="2895840" cy="537480"/>
            <a:chOff x="1219680" y="609480"/>
            <a:chExt cx="2895840" cy="537480"/>
          </a:xfrm>
        </p:grpSpPr>
        <p:sp>
          <p:nvSpPr>
            <p:cNvPr id="226" name=""/>
            <p:cNvSpPr/>
            <p:nvPr/>
          </p:nvSpPr>
          <p:spPr>
            <a:xfrm>
              <a:off x="1219680" y="6872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H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39720" y="901440"/>
              <a:ext cx="2282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49200" y="901440"/>
              <a:ext cx="761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91240" y="609480"/>
              <a:ext cx="11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X</a:t>
              </a:r>
              <a:r>
                <a:rPr b="0" lang="en-US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70040" y="1066680"/>
            <a:ext cx="1752480" cy="1099800"/>
            <a:chOff x="770040" y="1066680"/>
            <a:chExt cx="1752480" cy="1099800"/>
          </a:xfrm>
        </p:grpSpPr>
        <p:sp>
          <p:nvSpPr>
            <p:cNvPr id="231" name=""/>
            <p:cNvSpPr/>
            <p:nvPr/>
          </p:nvSpPr>
          <p:spPr>
            <a:xfrm>
              <a:off x="770040" y="152388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 stronger the bo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646280" y="1066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75112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eaker the ac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7150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 &lt;&lt; HCl &lt; HBr &lt; 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30001" r="0" b="13748"/>
          <a:stretch/>
        </p:blipFill>
        <p:spPr>
          <a:xfrm>
            <a:off x="3886200" y="4952880"/>
            <a:ext cx="4419720" cy="1866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181480" y="83808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d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91480" y="651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79600" y="685800"/>
            <a:ext cx="6195240" cy="990360"/>
            <a:chOff x="1479600" y="685800"/>
            <a:chExt cx="6195240" cy="990360"/>
          </a:xfrm>
        </p:grpSpPr>
        <p:grpSp>
          <p:nvGrpSpPr>
            <p:cNvPr id="240" name=""/>
            <p:cNvGrpSpPr/>
            <p:nvPr/>
          </p:nvGrpSpPr>
          <p:grpSpPr>
            <a:xfrm>
              <a:off x="1479600" y="914400"/>
              <a:ext cx="6195240" cy="761760"/>
              <a:chOff x="1479600" y="914400"/>
              <a:chExt cx="6195240" cy="76176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479600" y="914400"/>
                <a:ext cx="2459880" cy="761760"/>
                <a:chOff x="1479600" y="914400"/>
                <a:chExt cx="2459880" cy="76176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147960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>
                  <a:off x="1479600" y="9144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1479600" y="13716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38240" y="106668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231768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748960" y="1054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311796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539160" y="10666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4146480" y="1295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5113440" y="914400"/>
                <a:ext cx="1762560" cy="761760"/>
                <a:chOff x="5113440" y="914400"/>
                <a:chExt cx="1762560" cy="761760"/>
              </a:xfrm>
            </p:grpSpPr>
            <p:sp>
              <p:nvSpPr>
                <p:cNvPr id="252" name=""/>
                <p:cNvSpPr/>
                <p:nvPr/>
              </p:nvSpPr>
              <p:spPr>
                <a:xfrm flipH="1">
                  <a:off x="511344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5113440" y="9144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5113440" y="1371600"/>
                  <a:ext cx="45720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572080" y="106668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5951520" y="1295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88920" y="1003320"/>
                  <a:ext cx="48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O</a:t>
                  </a:r>
                  <a:r>
                    <a:rPr b="0" lang="en-US" sz="2800" spc="-1" strike="noStrike" baseline="30000">
                      <a:solidFill>
                        <a:srgbClr val="ffff00"/>
                      </a:solidFill>
                      <a:latin typeface="Arial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6822000" y="1066680"/>
                <a:ext cx="8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Arial"/>
                  </a:rPr>
                  <a:t>+  H</a:t>
                </a:r>
                <a:r>
                  <a:rPr b="0" lang="en-US" sz="2400" spc="-1" strike="noStrike" baseline="3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903400" y="685800"/>
              <a:ext cx="1065960" cy="520560"/>
              <a:chOff x="2903400" y="685800"/>
              <a:chExt cx="1065960" cy="52056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3400" y="68580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800" spc="-1" strike="noStrike" baseline="30000">
                    <a:solidFill>
                      <a:srgbClr val="ffff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17560" y="6858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800" spc="-1" strike="noStrike" baseline="3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533520" y="18288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O-H bond will be more polar and easier to break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 is very electronegativ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 is in a high oxidatio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74720" y="3456000"/>
            <a:ext cx="7620120" cy="3352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26400" y="22860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6440" y="103032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Oxoacids having different central atoms (Z) t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from the same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at have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 oxidation nu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9200" y="2097000"/>
            <a:ext cx="83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 strength increases with increasing electronegativity of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5720" y="2514600"/>
            <a:ext cx="2143800" cy="1388520"/>
            <a:chOff x="225720" y="2514600"/>
            <a:chExt cx="2143800" cy="1388520"/>
          </a:xfrm>
        </p:grpSpPr>
        <p:sp>
          <p:nvSpPr>
            <p:cNvPr id="269" name=""/>
            <p:cNvSpPr/>
            <p:nvPr/>
          </p:nvSpPr>
          <p:spPr>
            <a:xfrm>
              <a:off x="225720" y="3265560"/>
              <a:ext cx="19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  O   Cl  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380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4472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788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438200" y="3098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23280" y="2705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223640" y="2514600"/>
              <a:ext cx="414360" cy="461160"/>
              <a:chOff x="1223640" y="2514600"/>
              <a:chExt cx="414360" cy="461160"/>
            </a:xfrm>
          </p:grpSpPr>
          <p:sp>
            <p:nvSpPr>
              <p:cNvPr id="276" name=""/>
              <p:cNvSpPr/>
              <p:nvPr/>
            </p:nvSpPr>
            <p:spPr>
              <a:xfrm>
                <a:off x="1223640" y="2516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350720" y="2514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225440" y="3440160"/>
              <a:ext cx="414360" cy="461160"/>
              <a:chOff x="1225440" y="3440160"/>
              <a:chExt cx="414360" cy="461160"/>
            </a:xfrm>
          </p:grpSpPr>
          <p:sp>
            <p:nvSpPr>
              <p:cNvPr id="279" name=""/>
              <p:cNvSpPr/>
              <p:nvPr/>
            </p:nvSpPr>
            <p:spPr>
              <a:xfrm>
                <a:off x="122544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5252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03080" y="3060720"/>
              <a:ext cx="414360" cy="461160"/>
              <a:chOff x="703080" y="3060720"/>
              <a:chExt cx="414360" cy="461160"/>
            </a:xfrm>
          </p:grpSpPr>
          <p:sp>
            <p:nvSpPr>
              <p:cNvPr id="282" name=""/>
              <p:cNvSpPr/>
              <p:nvPr/>
            </p:nvSpPr>
            <p:spPr>
              <a:xfrm>
                <a:off x="703080" y="30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0160" y="3060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03080" y="3440160"/>
              <a:ext cx="414360" cy="461160"/>
              <a:chOff x="703080" y="3440160"/>
              <a:chExt cx="414360" cy="461160"/>
            </a:xfrm>
          </p:grpSpPr>
          <p:sp>
            <p:nvSpPr>
              <p:cNvPr id="285" name=""/>
              <p:cNvSpPr/>
              <p:nvPr/>
            </p:nvSpPr>
            <p:spPr>
              <a:xfrm>
                <a:off x="70308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016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908000" y="3278160"/>
              <a:ext cx="461520" cy="414000"/>
              <a:chOff x="1908000" y="3278160"/>
              <a:chExt cx="461520" cy="414000"/>
            </a:xfrm>
          </p:grpSpPr>
          <p:sp>
            <p:nvSpPr>
              <p:cNvPr id="288" name=""/>
              <p:cNvSpPr/>
              <p:nvPr/>
            </p:nvSpPr>
            <p:spPr>
              <a:xfrm rot="16200000">
                <a:off x="1995840" y="3318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00000">
                <a:off x="1994040" y="3191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758960" y="3441600"/>
              <a:ext cx="414000" cy="461520"/>
              <a:chOff x="1758960" y="3441600"/>
              <a:chExt cx="414000" cy="461520"/>
            </a:xfrm>
          </p:grpSpPr>
          <p:sp>
            <p:nvSpPr>
              <p:cNvPr id="291" name=""/>
              <p:cNvSpPr/>
              <p:nvPr/>
            </p:nvSpPr>
            <p:spPr>
              <a:xfrm>
                <a:off x="1758960" y="34434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8568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757160" y="3048120"/>
              <a:ext cx="414360" cy="461160"/>
              <a:chOff x="1757160" y="3048120"/>
              <a:chExt cx="414360" cy="46116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7160" y="3049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84240" y="30481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387440" y="2721240"/>
              <a:ext cx="461520" cy="414360"/>
              <a:chOff x="1387440" y="2721240"/>
              <a:chExt cx="461520" cy="414360"/>
            </a:xfrm>
          </p:grpSpPr>
          <p:sp>
            <p:nvSpPr>
              <p:cNvPr id="297" name=""/>
              <p:cNvSpPr/>
              <p:nvPr/>
            </p:nvSpPr>
            <p:spPr>
              <a:xfrm rot="16200000">
                <a:off x="1475280" y="2761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1473480" y="2634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006560" y="2721240"/>
              <a:ext cx="461160" cy="414360"/>
              <a:chOff x="1006560" y="2721240"/>
              <a:chExt cx="461160" cy="414360"/>
            </a:xfrm>
          </p:grpSpPr>
          <p:sp>
            <p:nvSpPr>
              <p:cNvPr id="300" name=""/>
              <p:cNvSpPr/>
              <p:nvPr/>
            </p:nvSpPr>
            <p:spPr>
              <a:xfrm rot="16200000">
                <a:off x="1094040" y="2761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1092600" y="2634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3505680" y="2514600"/>
            <a:ext cx="2153160" cy="1388160"/>
            <a:chOff x="3505680" y="2514600"/>
            <a:chExt cx="2153160" cy="1388160"/>
          </a:xfrm>
        </p:grpSpPr>
        <p:sp>
          <p:nvSpPr>
            <p:cNvPr id="303" name=""/>
            <p:cNvSpPr/>
            <p:nvPr/>
          </p:nvSpPr>
          <p:spPr>
            <a:xfrm>
              <a:off x="3505680" y="326556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  O   Br   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1312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404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7200" y="3479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727520" y="3098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2600" y="2705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512960" y="2514600"/>
              <a:ext cx="414360" cy="461160"/>
              <a:chOff x="4512960" y="2514600"/>
              <a:chExt cx="414360" cy="4611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12960" y="2516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40040" y="2514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514760" y="3440160"/>
              <a:ext cx="414360" cy="461160"/>
              <a:chOff x="4514760" y="3440160"/>
              <a:chExt cx="414360" cy="461160"/>
            </a:xfrm>
          </p:grpSpPr>
          <p:sp>
            <p:nvSpPr>
              <p:cNvPr id="313" name=""/>
              <p:cNvSpPr/>
              <p:nvPr/>
            </p:nvSpPr>
            <p:spPr>
              <a:xfrm>
                <a:off x="451476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64184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992400" y="3060720"/>
              <a:ext cx="414360" cy="461160"/>
              <a:chOff x="3992400" y="3060720"/>
              <a:chExt cx="414360" cy="461160"/>
            </a:xfrm>
          </p:grpSpPr>
          <p:sp>
            <p:nvSpPr>
              <p:cNvPr id="316" name=""/>
              <p:cNvSpPr/>
              <p:nvPr/>
            </p:nvSpPr>
            <p:spPr>
              <a:xfrm>
                <a:off x="3992400" y="3062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19480" y="3060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992400" y="3440160"/>
              <a:ext cx="414360" cy="461160"/>
              <a:chOff x="3992400" y="3440160"/>
              <a:chExt cx="414360" cy="461160"/>
            </a:xfrm>
          </p:grpSpPr>
          <p:sp>
            <p:nvSpPr>
              <p:cNvPr id="319" name=""/>
              <p:cNvSpPr/>
              <p:nvPr/>
            </p:nvSpPr>
            <p:spPr>
              <a:xfrm>
                <a:off x="399240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19480" y="3440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197320" y="3278160"/>
              <a:ext cx="461520" cy="414360"/>
              <a:chOff x="5197320" y="3278160"/>
              <a:chExt cx="461520" cy="414360"/>
            </a:xfrm>
          </p:grpSpPr>
          <p:sp>
            <p:nvSpPr>
              <p:cNvPr id="322" name=""/>
              <p:cNvSpPr/>
              <p:nvPr/>
            </p:nvSpPr>
            <p:spPr>
              <a:xfrm rot="16200000">
                <a:off x="5285160" y="33188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5283360" y="3191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047920" y="3441600"/>
              <a:ext cx="414360" cy="461160"/>
              <a:chOff x="5047920" y="3441600"/>
              <a:chExt cx="414360" cy="461160"/>
            </a:xfrm>
          </p:grpSpPr>
          <p:sp>
            <p:nvSpPr>
              <p:cNvPr id="325" name=""/>
              <p:cNvSpPr/>
              <p:nvPr/>
            </p:nvSpPr>
            <p:spPr>
              <a:xfrm>
                <a:off x="5047920" y="34430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75000" y="344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046480" y="3047760"/>
              <a:ext cx="414360" cy="461520"/>
              <a:chOff x="5046480" y="3047760"/>
              <a:chExt cx="414360" cy="461520"/>
            </a:xfrm>
          </p:grpSpPr>
          <p:sp>
            <p:nvSpPr>
              <p:cNvPr id="328" name=""/>
              <p:cNvSpPr/>
              <p:nvPr/>
            </p:nvSpPr>
            <p:spPr>
              <a:xfrm>
                <a:off x="5046480" y="30495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73560" y="30477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676760" y="2720880"/>
              <a:ext cx="461160" cy="414000"/>
              <a:chOff x="4676760" y="2720880"/>
              <a:chExt cx="461160" cy="414000"/>
            </a:xfrm>
          </p:grpSpPr>
          <p:sp>
            <p:nvSpPr>
              <p:cNvPr id="331" name=""/>
              <p:cNvSpPr/>
              <p:nvPr/>
            </p:nvSpPr>
            <p:spPr>
              <a:xfrm rot="16200000">
                <a:off x="4764240" y="27612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762800" y="2634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295880" y="2720880"/>
              <a:ext cx="461160" cy="414000"/>
              <a:chOff x="4295880" y="2720880"/>
              <a:chExt cx="461160" cy="414000"/>
            </a:xfrm>
          </p:grpSpPr>
          <p:sp>
            <p:nvSpPr>
              <p:cNvPr id="334" name=""/>
              <p:cNvSpPr/>
              <p:nvPr/>
            </p:nvSpPr>
            <p:spPr>
              <a:xfrm rot="16200000">
                <a:off x="4383360" y="27612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4381920" y="26344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611640" y="407844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 is more electronegative than 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73240" y="3238560"/>
            <a:ext cx="5331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49600" y="323856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32720" y="5334120"/>
            <a:ext cx="223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HBr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96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23752" r="0" b="10004"/>
          <a:stretch/>
        </p:blipFill>
        <p:spPr>
          <a:xfrm>
            <a:off x="4572000" y="4584600"/>
            <a:ext cx="4419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91480" y="6516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Structure and Aci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6440" y="103032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Oxoacids having the same central atom (Z) but different numbers of attached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4800" y="209700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 strength increases as the oxidation number of Z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rcRect l="5000" t="4846" r="5000" b="4846"/>
          <a:stretch/>
        </p:blipFill>
        <p:spPr>
          <a:xfrm>
            <a:off x="0" y="2735280"/>
            <a:ext cx="5486400" cy="3787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419440" y="4251240"/>
            <a:ext cx="379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l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HCl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HCl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H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Weak aci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One of the best known is acetic acid = 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7621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196720" y="65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Base Properties of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143000"/>
            <a:ext cx="7772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containing an alkali metal or alkaline earth metal ion (except B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onjugate base of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o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247840" y="2438280"/>
            <a:ext cx="4655880" cy="592920"/>
            <a:chOff x="2247840" y="2438280"/>
            <a:chExt cx="4655880" cy="592920"/>
          </a:xfrm>
        </p:grpSpPr>
        <p:sp>
          <p:nvSpPr>
            <p:cNvPr id="352" name=""/>
            <p:cNvSpPr/>
            <p:nvPr/>
          </p:nvSpPr>
          <p:spPr>
            <a:xfrm>
              <a:off x="2247840" y="2571480"/>
              <a:ext cx="46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C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05320" y="281268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15760" y="24382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5228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sic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derived from a strong b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093680" y="4343400"/>
            <a:ext cx="6777000" cy="643320"/>
            <a:chOff x="1093680" y="4343400"/>
            <a:chExt cx="6777000" cy="643320"/>
          </a:xfrm>
        </p:grpSpPr>
        <p:sp>
          <p:nvSpPr>
            <p:cNvPr id="358" name=""/>
            <p:cNvSpPr/>
            <p:nvPr/>
          </p:nvSpPr>
          <p:spPr>
            <a:xfrm>
              <a:off x="1093680" y="4476600"/>
              <a:ext cx="677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56080" y="471816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66520" y="43434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41680" y="5238720"/>
            <a:ext cx="7479360" cy="510120"/>
            <a:chOff x="841680" y="5238720"/>
            <a:chExt cx="7479360" cy="510120"/>
          </a:xfrm>
        </p:grpSpPr>
        <p:sp>
          <p:nvSpPr>
            <p:cNvPr id="362" name=""/>
            <p:cNvSpPr/>
            <p:nvPr/>
          </p:nvSpPr>
          <p:spPr>
            <a:xfrm>
              <a:off x="841680" y="5238720"/>
              <a:ext cx="747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133520" y="5403960"/>
              <a:ext cx="609840" cy="152280"/>
              <a:chOff x="4133520" y="5403960"/>
              <a:chExt cx="609840" cy="152280"/>
            </a:xfrm>
          </p:grpSpPr>
          <p:sp>
            <p:nvSpPr>
              <p:cNvPr id="364" name=""/>
              <p:cNvSpPr/>
              <p:nvPr/>
            </p:nvSpPr>
            <p:spPr>
              <a:xfrm>
                <a:off x="4133880" y="54039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133520" y="5556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7086600" y="51246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49040" y="6384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96720" y="65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Base Properties of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685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id Sol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derived from a strong acid and a weak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090880" y="1981080"/>
            <a:ext cx="4954320" cy="643680"/>
            <a:chOff x="2090880" y="1981080"/>
            <a:chExt cx="4954320" cy="643680"/>
          </a:xfrm>
        </p:grpSpPr>
        <p:sp>
          <p:nvSpPr>
            <p:cNvPr id="372" name=""/>
            <p:cNvSpPr/>
            <p:nvPr/>
          </p:nvSpPr>
          <p:spPr>
            <a:xfrm>
              <a:off x="2090880" y="2114640"/>
              <a:ext cx="495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l (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) + Cl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(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560" y="23558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000" y="1981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279520" y="2895480"/>
            <a:ext cx="4588920" cy="510120"/>
            <a:chOff x="2279520" y="2895480"/>
            <a:chExt cx="4588920" cy="510120"/>
          </a:xfrm>
        </p:grpSpPr>
        <p:sp>
          <p:nvSpPr>
            <p:cNvPr id="376" name=""/>
            <p:cNvSpPr/>
            <p:nvPr/>
          </p:nvSpPr>
          <p:spPr>
            <a:xfrm>
              <a:off x="2279520" y="2895480"/>
              <a:ext cx="458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N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720600" y="3060720"/>
              <a:ext cx="609840" cy="152280"/>
              <a:chOff x="3720600" y="3060720"/>
              <a:chExt cx="609840" cy="152280"/>
            </a:xfrm>
          </p:grpSpPr>
          <p:sp>
            <p:nvSpPr>
              <p:cNvPr id="378" name=""/>
              <p:cNvSpPr/>
              <p:nvPr/>
            </p:nvSpPr>
            <p:spPr>
              <a:xfrm>
                <a:off x="3720960" y="30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720600" y="32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5791320" y="2819520"/>
            <a:ext cx="5331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ts with small, highly charged metal cation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B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nd the conjugate base of a strong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407240" y="4876920"/>
            <a:ext cx="6329520" cy="560880"/>
            <a:chOff x="1407240" y="4876920"/>
            <a:chExt cx="6329520" cy="560880"/>
          </a:xfrm>
        </p:grpSpPr>
        <p:sp>
          <p:nvSpPr>
            <p:cNvPr id="383" name=""/>
            <p:cNvSpPr/>
            <p:nvPr/>
          </p:nvSpPr>
          <p:spPr>
            <a:xfrm>
              <a:off x="1407240" y="4927680"/>
              <a:ext cx="63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l(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)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6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 Al(OH)(H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)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US" sz="24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ffff00"/>
                  </a:solidFill>
                  <a:latin typeface="Arial"/>
                </a:rPr>
                <a:t>aq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339720" y="5092920"/>
              <a:ext cx="609840" cy="152280"/>
              <a:chOff x="3339720" y="5092920"/>
              <a:chExt cx="609840" cy="152280"/>
            </a:xfrm>
          </p:grpSpPr>
          <p:sp>
            <p:nvSpPr>
              <p:cNvPr id="385" name=""/>
              <p:cNvSpPr/>
              <p:nvPr/>
            </p:nvSpPr>
            <p:spPr>
              <a:xfrm>
                <a:off x="3340080" y="5092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39720" y="5245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418120" y="4876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3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94480" y="4876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249040" y="6384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196720" y="6516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Base Properties of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6858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lutions in which both the cation and the anion hydroly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295280"/>
            <a:ext cx="84582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anion &gt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cation, solution will be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anion &lt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cation, solution will be 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an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cation, solution will b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49040" y="63849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4605" r="0" b="0"/>
          <a:stretch/>
        </p:blipFill>
        <p:spPr>
          <a:xfrm>
            <a:off x="152280" y="2971800"/>
            <a:ext cx="88362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OH (aq)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666880"/>
            <a:ext cx="458460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3048120"/>
            <a:ext cx="3390840" cy="3276360"/>
            <a:chOff x="457200" y="3048120"/>
            <a:chExt cx="3390840" cy="32763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3048120"/>
              <a:ext cx="3390840" cy="32763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57" name=""/>
            <p:cNvSpPr/>
            <p:nvPr/>
          </p:nvSpPr>
          <p:spPr>
            <a:xfrm>
              <a:off x="2907360" y="574344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621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ccff"/>
                </a:solidFill>
                <a:uFillTx/>
                <a:latin typeface="Arial"/>
              </a:rPr>
              <a:t>Strong and Weak Acids/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5562720"/>
            <a:ext cx="5029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ng bases are the group I hydrox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ium, strontium, and barium hydroxides are strong, but only soluble in water to 0.0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am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307332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581280" cy="23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Arial"/>
              </a:rPr>
              <a:t>Weak B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685800" y="137160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ccff"/>
                </a:solidFill>
                <a:latin typeface="Arial"/>
              </a:rPr>
              <a:t>Equilibria Involving </a:t>
            </a:r>
            <a:br>
              <a:rPr sz="4200"/>
            </a:br>
            <a:r>
              <a:rPr b="0" lang="en-US" sz="4200" spc="-1" strike="noStrike">
                <a:solidFill>
                  <a:srgbClr val="ccccff"/>
                </a:solidFill>
                <a:latin typeface="Arial"/>
              </a:rPr>
              <a:t>Weak Acids and Bas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Conj.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09480" y="144792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105520"/>
            <a:ext cx="8686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ff"/>
                </a:solidFill>
                <a:latin typeface="Arial"/>
              </a:rPr>
              <a:t>Ionization Constants for Acids/Bases</a:t>
            </a: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Equilibrium Constants  </a:t>
            </a:r>
            <a:br>
              <a:rPr sz="4400"/>
            </a:b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for Weak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84" name="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20:14:37Z</dcterms:created>
  <dc:creator>J. David Robertson</dc:creator>
  <dc:description/>
  <dc:language>en-US</dc:language>
  <cp:lastModifiedBy>C363966</cp:lastModifiedBy>
  <dcterms:modified xsi:type="dcterms:W3CDTF">2014-04-02T19:47:01Z</dcterms:modified>
  <cp:revision>52</cp:revision>
  <dc:subject/>
  <dc:title>Acids and Bases</dc:title>
</cp:coreProperties>
</file>